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9299575" cy="7013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0" y="0"/>
            <a:ext cx="9298800" cy="70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35"/>
          </p:nvPr>
        </p:nvSpPr>
        <p:spPr>
          <a:xfrm>
            <a:off x="526860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Img"/>
          </p:nvPr>
        </p:nvSpPr>
        <p:spPr>
          <a:xfrm>
            <a:off x="2895480" y="525240"/>
            <a:ext cx="3508560" cy="263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40480" cy="3155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ftr" idx="36"/>
          </p:nvPr>
        </p:nvSpPr>
        <p:spPr>
          <a:xfrm>
            <a:off x="-360" y="66596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 type="sldNum" idx="37"/>
          </p:nvPr>
        </p:nvSpPr>
        <p:spPr>
          <a:xfrm>
            <a:off x="5268600" y="66596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85982-E231-4E8A-8519-6608026DAEF2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8560" cy="26305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28800" y="3330720"/>
            <a:ext cx="7440480" cy="31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5268960" y="6659640"/>
            <a:ext cx="4027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992D5-D0A8-420F-B31C-CCA1302A287A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C0DF-9F00-43A2-AE88-A11ED3FA50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16AF-FD05-4D87-BC93-D531465A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C8AE47-3170-4A66-8E8A-FC532144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39FE73-F433-4686-B58C-357915FA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31DCAA-EA24-414E-97E8-D61572D8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7C2633-D493-4619-9B03-6B34A74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AA0114-FF87-45B9-9AE5-792C672C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CEBD6D-E639-4D98-A4C6-1CE669EE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4AA7B-237A-49F1-A239-F0A14A4D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5D6F5A-5BB3-421A-A326-6BD9C805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0556A5-3AC3-466A-95ED-FD529F35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E105BB-CFA1-4534-8463-45191BAB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9152-8B32-4EBD-AB2C-729225FD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0317F9-2AC6-41B0-86CD-1386E3DB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AF96C6-E151-431E-B26D-1D1554FB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A95641-B541-495C-93A7-95A03685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F80F4-6A7B-4522-A44C-1114644D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970777-4653-4BC0-8EBF-26BADCE9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885747-DBF6-45C3-BA97-AF8B8DF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F2FAF1-58D4-4516-A900-0A512E6C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3455BE-7981-4FDE-9549-A3A41294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96E44B-8AA9-45B9-B101-5DB867AC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59A4F0-BCF8-4605-91FD-C34CEB47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AB5F-8B2A-4022-8C4A-5FA01E74F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F0FBFC-159E-41CC-BE66-B38C99F7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7F40C8-72E8-48E8-93A8-97A82B83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F1988D-44C9-403F-A437-32A9320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95ACF4-A44A-40BC-BB65-DD87660A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C2C64A-3616-4A07-B458-0B883F9D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C15D04-5EEB-45EC-9BBE-1706583B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C75B73-B0DF-4C3E-9117-2C91F888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0DBF40-066E-4676-86AA-4899923C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59F299-A919-43FB-B1CD-A77C252F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0641D5-A2C6-4313-AC3E-612E4E32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F45379-7A2D-4104-ADE3-6948592D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D2DBEF-619D-4E2F-90B8-E91D8008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995729-0D6D-4C5C-B13F-BC565A56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54B657-659A-41A5-90F6-BB834954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5E619C-B74B-4047-A83C-08844BAD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08235C-76C4-45F4-BB64-B1AAC749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742610-EF13-47F6-83A4-5B345AC1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B6D1E6-A3EA-406A-9121-55C44976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8115FF-AC0F-486E-89F7-55140F2B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A03D7B-4F0B-4FF9-85F3-C0FE015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3070C9-27C3-4AF1-BDC9-11301F00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9C37F3-AC84-43A7-A869-A98177A1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6AEC54-87A7-4C0E-AD29-114EDF20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07FF1D-9D7E-429F-B96A-3272C01C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065FD2-34D9-4D68-BAED-A627A42C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D465A-063D-45E6-A489-E01D913513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5417EE-710B-4E14-98E5-AF3EEBC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06DFC-FB27-43E1-B1C6-DCF907A8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9AD2A-C933-4F2D-955D-CA96A05F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FE2364-81A8-4CF9-9CEC-01B148A2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D6EF8-4D54-4226-BCAA-1FB4BDAD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0E4331-45B8-4CFA-84DA-68BD65AA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C4FC7-2116-4271-9099-63609312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78ED95-C41E-4FAA-BB9F-BB13D515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A65E2-28B0-416B-8254-351E8296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9C94D-8112-4423-8FEC-71CE0DB1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DBC80-E0C7-48AD-AA2A-BB9EDAA6F4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DCE5C-551E-47F9-8EE3-9CEE07F8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87D29-582C-4BA4-9779-D0F1B488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62409-B6A6-45F6-B66C-0AB45D67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557AB-1A49-49BB-A69B-B64B2EBF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C703D-E5B2-43AA-9C78-79D333AE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37913-8463-40A9-8E76-15BE60F1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BAC5E-F448-465D-8A0E-E359868E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EB44D-4558-4854-953E-B7BD239A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73DCE-0F17-4A00-A699-5902523B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4E17A-2ACE-483E-9F77-E58FC0E3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4D4E8-06B5-452E-AE74-1D0F34D4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0147C-7EFF-4C02-9014-34BA1A7A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316E8-CAFE-4DD6-8C68-A045AB53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03DBF-31F9-42B7-A00D-BD17472F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D1A20B-B332-4F52-9D1B-1456BFE7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36BF8-208E-4100-950A-BD82BA84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93AD3-8350-4F53-9F3C-9918AFE9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1719-EFE7-4BD7-A59D-18781241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2118A-6CDA-4799-BDB9-71AE6596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8C079-D550-4A44-8AAC-A3295C1F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73B93-C600-40F0-9878-BE0B0A8F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E2A5C-9A1F-4F12-9FEA-B4FA9EB7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856B9-A628-4117-9CDD-4493C326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5A717-AFD7-4643-844D-E96D82E4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D0343-6049-4372-AFD9-3E740777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5C892-3F87-47EB-9C9F-13D18D26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35971-EE22-4153-ABC5-F678C75A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4F124-D1FA-4BD6-AA77-EC7B0859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A223-2E0F-42C1-B7D4-0EDD0C61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A5A5A-0668-48C7-9442-1315728F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7783BA-B89E-4F14-9214-F3D548E5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41B8B-F433-4C6E-804F-38236C92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7437B-34B2-4F26-9E03-7D255E5F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C3D17-23CB-44DC-BB13-0E25F71C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472566-2A9D-4579-9914-BF8B8876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5A10D-1B60-4A0B-A529-041059C0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BA0F1-FFF4-40AE-BF42-B9FB02FD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1B22C-0973-49A4-B835-0B0A547A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712C6-E2AA-435B-98FE-319A4E98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718D-85CC-4A25-8F70-BFBB6A44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EBD028-06F8-43E3-A89D-FA469F61F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74388-0F3A-446E-9B10-7DF7B6D7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BA371-FB0C-4D03-8395-6C794186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1AEF7-E7BE-4CFF-AFB1-71E80135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356DF-318A-427C-91D8-61F037CF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92576-C1F0-4594-99DC-14A2061E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C0042-4E77-44D3-8235-14D9F603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E8439-3A44-489A-88D8-ED4489C4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8476D-DC22-4412-B66E-25963156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37695-0A51-4F99-8D61-9B4696D5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2DF1-B598-4B09-9C6C-625B2D99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D8E6E-A6E8-48E8-B3A9-511B0E16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1A263-5340-4184-AA11-6FA49C89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02668-CB59-43F5-BB4B-82880B99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6AC38-4F9A-4AAD-8303-42A2C36A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8A35A-8459-4E81-B7EE-BA2A3762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800B7E-6F83-4985-98B6-8FD40133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CA845-45D2-43A2-BD15-049A9F18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51A49-8818-4954-A5B2-E9CF74DA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3F0785-D617-4EEB-B635-31365557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1AA3D-FD29-4DF4-836B-DEBE80A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6753-C5F9-453F-B2F5-944C247E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4009C-DB14-4F38-8394-F0489206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F71DD-F0A4-4430-B961-E2E9E15C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0E0B1-CAE4-4405-94A6-61BF263D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90E18D-E6A3-49AF-AD6D-9925F147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1A4E39-CACE-4397-988E-09BBEEAE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35101-9D5A-412B-87FC-E2C8ECEC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ECBB6-BF5F-4E9B-95B9-CD195520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EC5E7-516A-4F44-BDCD-05CDBF95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59DDC-6407-4D72-9275-9B75D161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ED3B47-77B7-4866-BE36-7CB33142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1D84-EDEC-43BE-A199-97575616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E7388-0D81-429F-920E-DD01CBEA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A4F81-FD6E-4EFA-9249-74F72BA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BDBDA-7E8E-456E-98B8-63A10ABF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6D281-7BA2-4AE0-B321-C1058F11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E661A-2221-42C4-8002-C3977074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97D63-E0CE-41B8-89B5-356AA187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63B0D-006A-4A33-9ADC-2DE0B6D5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1933E3-6545-4295-AB65-E2F1F1D6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36407E-EDF4-41C1-94BF-31101D1D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A663A8-0572-4A64-865C-EA1EB5C8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347B-4F5D-44BC-B6A4-5186CE1B67B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67DD-9DC2-4ADB-A180-AED04C94D7A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5F5A-417C-4724-8896-3FE44459382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076F-A618-4429-895E-166B25D1812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34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F4CD-5FDD-4C9F-AF4A-0A8DA645BDB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3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5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7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9FE7-487E-4065-B123-41F8851F82FA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8976-0C4B-4936-9CBA-F1B49EC9450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DFC6-0849-4558-8C53-94FB522E3A8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0D6F-2980-462B-B5F0-CAFF72D98A0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FB1B-06AB-457C-9D17-05F9C363294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1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474-2896-4BE4-80BE-2025EE7D97D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7288-3B64-4F58-ABDD-3C8A645142E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GalaneSL@eskom.co.za" TargetMode="External"/><Relationship Id="rId2" Type="http://schemas.openxmlformats.org/officeDocument/2006/relationships/hyperlink" Target="mailto:GalaneSL@eskom.co.za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05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606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608" name="Picture 161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610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1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2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3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4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15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616" name="Oval 102" descr=""/>
            <p:cNvPicPr/>
            <p:nvPr/>
          </p:nvPicPr>
          <p:blipFill>
            <a:blip r:embed="rId3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18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61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22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623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4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5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6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7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8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9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0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31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3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63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3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63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43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44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64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48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649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0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1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2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3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4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55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656" name="Oval 138" descr=""/>
            <p:cNvPicPr/>
            <p:nvPr/>
          </p:nvPicPr>
          <p:blipFill>
            <a:blip r:embed="rId6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58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659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0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1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874960" y="1257120"/>
            <a:ext cx="5802480" cy="28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896"/>
                </a:solidFill>
                <a:latin typeface="Arial"/>
              </a:rPr>
              <a:t>CDD Water Site Irrigation Systems at Medupi Power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3058920" y="5178240"/>
            <a:ext cx="5545080" cy="84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Date: 13 September 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Time: 09:00am – 11:00am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71520" y="2595600"/>
            <a:ext cx="554508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896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3058920" y="4220640"/>
            <a:ext cx="5545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725b"/>
                </a:solidFill>
                <a:latin typeface="Arial"/>
              </a:rPr>
              <a:t>Questions or Comments??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698" name="Picture 56" descr=""/>
          <p:cNvPicPr/>
          <p:nvPr/>
        </p:nvPicPr>
        <p:blipFill>
          <a:blip r:embed="rId2"/>
          <a:stretch/>
        </p:blipFill>
        <p:spPr>
          <a:xfrm>
            <a:off x="5435640" y="6213600"/>
            <a:ext cx="319716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6559-C2F8-4CC9-AC25-389CCE36ED9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4913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Welcome &amp; Introduc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85104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Safety-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Mzi Dyariw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Invitation to Tender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85104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Commercial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Mzi Dyariw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85104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Mandatory Tender Returnables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Mzi Dyariw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85104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Pre-qualification criteria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- Thomas Chuen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Scope of Work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Assa Lekoloane/Justice Mphahlel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Evaluation Criteria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Functionality (Technical)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Assa Lekoloane/ Justice Mphahlel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75420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SD&amp;L &amp; Preference points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Thomas Chuen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75420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Contractual Requirements (SHEQ)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Sehlare Modiba, Sebenzile Tshabalala &amp; Thabo Khoza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75420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NEC-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Moses Nonyan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75420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Price (BoQ) –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 Luyanda Msipha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754200" indent="-40032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General &amp; Questions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(All)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896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Closure – </a:t>
            </a:r>
            <a:r>
              <a:rPr b="0" lang="en-US" sz="1600" spc="-1" strike="noStrike">
                <a:solidFill>
                  <a:srgbClr val="96330f"/>
                </a:solidFill>
                <a:latin typeface="Arial"/>
              </a:rPr>
              <a:t>Mzi Dyariw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itation to Te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36680" y="981000"/>
            <a:ext cx="8378640" cy="57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29320" indent="-229320">
              <a:lnSpc>
                <a:spcPct val="12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ommercia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1. Enquiry number: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  <a:ea typeface="Calibri"/>
              </a:rPr>
              <a:t>LPMED0048GX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 (To be quoted in all correspondence)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2. Contract duration –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Five (5) YEARS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3. Closing date &amp; time (1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5 September 2022 at 14h00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). NO LATE TENDER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4. Tender opening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Tenders will be opened at the same date and time as the tender deadline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Prices </a:t>
            </a:r>
            <a:r>
              <a:rPr b="1" i="1" lang="en-US" sz="1800" spc="-1" strike="noStrike">
                <a:solidFill>
                  <a:srgbClr val="003896"/>
                </a:solidFill>
                <a:latin typeface="Arial"/>
              </a:rPr>
              <a:t>will not be read out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5. NEC contract terms and conditions (NEC3 ECC3)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6. Tender validity period – 180 days (26 weeks) from closing date and time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7. All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munication to be done via e-mail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c97a00"/>
                </a:solidFill>
                <a:latin typeface="Arial"/>
              </a:rPr>
              <a:t>DyariwM</a:t>
            </a:r>
            <a:r>
              <a:rPr b="0" lang="en-US" sz="1800" spc="-1" strike="noStrike" u="sng">
                <a:solidFill>
                  <a:srgbClr val="83725b"/>
                </a:solidFill>
                <a:uFillTx/>
                <a:latin typeface="Arial"/>
                <a:hlinkClick r:id="rId1"/>
              </a:rPr>
              <a:t>@</a:t>
            </a:r>
            <a:r>
              <a:rPr b="0" lang="en-US" sz="1800" spc="-1" strike="noStrike" u="sng">
                <a:solidFill>
                  <a:srgbClr val="83725b"/>
                </a:solidFill>
                <a:uFillTx/>
                <a:latin typeface="Arial"/>
                <a:hlinkClick r:id="rId2"/>
              </a:rPr>
              <a:t>eskom.co.z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</a:rPr>
              <a:t>NB: The Eskom Representative above shall be the single point of contact regarding queries associated with this enquiry and no other Eskom employee may communicate directly with the suppliers.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22932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</a:rPr>
              <a:t>Secondly, please send us your ID Copies of the people who will be attending, Car Registration number.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8. Deadline for clarifications (TBC)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9.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File indexing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29320" indent="-229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229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9393-2009-475C-84BA-E200785152D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itation to Tender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36320" y="1052280"/>
            <a:ext cx="8528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2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Mandatory Tender Returnable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120000"/>
              </a:lnSpc>
              <a:spcBef>
                <a:spcPts val="60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The tenderer shall submit an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original tender, plus 1 hard copy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of the original tender. Where a Tenderer does not submit a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e copy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 of the original tender, such tenderer will be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disqualified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spcBef>
                <a:spcPts val="60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Annexures to the Invitation to tender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spcBef>
                <a:spcPts val="60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Completed NEC pricing schedule and contract dat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20000"/>
              </a:lnSpc>
              <a:spcBef>
                <a:spcPts val="60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Central Supplier Database (CSD) number (MAAA………..)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896"/>
                </a:solidFill>
                <a:uFillTx/>
                <a:latin typeface="Arial"/>
              </a:rPr>
              <a:t>NB: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 Tenderers who do not submit these mandatory tender returnables will be disqualified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9329-C2E7-4C0F-AA32-D724FDB4FB8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pe of Work &amp; Technical evaluation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24000" y="1052280"/>
            <a:ext cx="8378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COPE OF WORKS  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uppliers must tender as per Scope of work, no deviations wil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be allowed (See specification that was issued with the tender, ANNEXURE DT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TECHNICAL EVALUATION CRITERIA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echnical evaluation will be done in three stages: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1. Mandatory Requirement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2. Functionality – Desktop evaluation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3.</a:t>
            </a:r>
            <a:r>
              <a:rPr b="0" lang="en-ZA" sz="1800" spc="-1" strike="noStrike">
                <a:solidFill>
                  <a:srgbClr val="003896"/>
                </a:solidFill>
                <a:latin typeface="CIDFont+F2"/>
              </a:rPr>
              <a:t> </a:t>
            </a: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Supplier on-site Evaluation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enderers who do not meet the threshold functionality scoring of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 80% 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will be disqualified and not be evaluated further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60FA-F8A6-45AF-9492-9E31B71E8BE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36680" y="1197000"/>
            <a:ext cx="83786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Scoring of Price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Prices will be scored out of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80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Scoring of B-BBEE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B-BBEE status will be scored out of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20 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in accordance with PPPFA Regulations 2017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ntract requirement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Quality, Safety, Environmental  and SDL&amp;I are contractual requirements for this contract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896"/>
                </a:solidFill>
                <a:uFillTx/>
                <a:latin typeface="Arial"/>
              </a:rPr>
              <a:t>NB: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 All documents requested as returnables in the Invitation to Tender must be submitted with the tender. Failure to do so will lead to disqualification from further evaluation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1EE9-64F2-4CC1-8D7D-3C98E7DB10C1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01760" y="16524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r Development, Localisation and &amp; Industrialization (SDL&amp;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A0AC-7EE5-44D8-A301-618AE3F9234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401760" y="1268280"/>
          <a:ext cx="8273880" cy="5040360"/>
        </p:xfrm>
        <a:graphic>
          <a:graphicData uri="http://schemas.openxmlformats.org/drawingml/2006/table">
            <a:tbl>
              <a:tblPr/>
              <a:tblGrid>
                <a:gridCol w="4279680"/>
                <a:gridCol w="3994200"/>
              </a:tblGrid>
              <a:tr h="1051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-BBEE Status Level of Contributor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oints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0/10 system)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ff4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f"/>
                    </a:solidFill>
                  </a:tcPr>
                </a:tc>
              </a:tr>
              <a:tr h="43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409680"/>
                          <a:tab algn="ctr" pos="787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ff4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f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ff4"/>
                    </a:solidFill>
                  </a:tcPr>
                </a:tc>
              </a:tr>
              <a:tr h="434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f"/>
                    </a:solidFill>
                  </a:tcPr>
                </a:tc>
              </a:tr>
              <a:tr h="43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ff4"/>
                    </a:solidFill>
                  </a:tcPr>
                </a:tc>
              </a:tr>
              <a:tr h="509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compliant contributor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575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 of the contract – NEC3 E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18680" y="1196640"/>
            <a:ext cx="8379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 u="sng">
                <a:solidFill>
                  <a:srgbClr val="003896"/>
                </a:solidFill>
                <a:uFillTx/>
                <a:latin typeface="Arial"/>
                <a:ea typeface="Calibri"/>
              </a:rPr>
              <a:t>Main Op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A: Priced contract with active schedul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W1: Dispute resolution procedu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 u="sng">
                <a:solidFill>
                  <a:srgbClr val="003896"/>
                </a:solidFill>
                <a:uFillTx/>
                <a:latin typeface="Arial"/>
                <a:ea typeface="Calibri"/>
              </a:rPr>
              <a:t>Secondary Options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X2: Changes in the law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Calibri"/>
                <a:ea typeface="Calibri"/>
              </a:rPr>
              <a:t>X7: Delay Damages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Calibri"/>
                <a:ea typeface="Calibri"/>
              </a:rPr>
              <a:t>X15 Limitation of Contractor’s Liability for Design to reasonable skill ca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Calibri"/>
                <a:ea typeface="Calibri"/>
              </a:rPr>
              <a:t>X16 Reten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X17: Low service damages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X18: Limitation of Liability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90520" indent="-266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  <a:ea typeface="Calibri"/>
              </a:rPr>
              <a:t>Z: Additional conditions of contract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0" name="Date Placeholder 3"/>
          <p:cNvSpPr/>
          <p:nvPr/>
        </p:nvSpPr>
        <p:spPr>
          <a:xfrm>
            <a:off x="463680" y="6453360"/>
            <a:ext cx="1738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F9F-EB6E-420E-9FE0-E259B87B64D9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ition of the contract – NEC3 T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18680" y="1196640"/>
            <a:ext cx="8379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6676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 u="sng">
                <a:solidFill>
                  <a:srgbClr val="003896"/>
                </a:solidFill>
                <a:uFillTx/>
                <a:latin typeface="Arial"/>
                <a:ea typeface="Calibri"/>
              </a:rPr>
              <a:t>Price list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4" name="Date Placeholder 3"/>
          <p:cNvSpPr/>
          <p:nvPr/>
        </p:nvSpPr>
        <p:spPr>
          <a:xfrm>
            <a:off x="463680" y="6453360"/>
            <a:ext cx="1738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725b"/>
                </a:solidFill>
                <a:latin typeface="Arial"/>
              </a:rPr>
              <a:t>2022/09/13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8161-7159-4B00-9D0D-BA6D22C3EC1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Mzi Dyariwe</cp:lastModifiedBy>
  <cp:lastPrinted>2022-08-11T07:02:25Z</cp:lastPrinted>
  <dcterms:modified xsi:type="dcterms:W3CDTF">2022-09-09T10:15:59Z</dcterms:modified>
  <cp:revision>50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47</vt:lpwstr>
  </property>
  <property fmtid="{D5CDD505-2E9C-101B-9397-08002B2CF9AE}" pid="3" name="display_urn:schemas-microsoft-com:office:office#Owner">
    <vt:lpwstr>Vic Pretorius</vt:lpwstr>
  </property>
</Properties>
</file>